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2DC-5E23-40E2-8CBB-68525330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E84-541A-43EA-A703-899BAB75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E49-2F48-4EB3-BA6B-29AC2EA7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D9E-4AB6-4FC4-8AFE-DA235033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10AC-D466-4F08-AFCF-CD678553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560-3471-408F-9F09-F7929241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C0D-D936-4929-BE90-5F310125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778-CDEA-46A5-98BF-7D38D56C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0B1-6376-46BC-9D8E-55204EFA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1F1-7DDB-4A34-B778-3CB9E7AA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645-F3BA-45B2-ACF9-FB3C762B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E36-F740-494F-B910-A863FA1C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6BD7-8F17-4CEA-AD08-C421B53C1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RND_468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14480" y="120600"/>
            <a:ext cx="5175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ي رهبـة ورع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في خشـوع وامتنان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تجـرأت وقـرر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 أخاطب الإل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إذ ذاك تقـدم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ي خـزيٌ وأمــان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بنـوره تجلّى 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كل ما لي من آثـ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سألته ترى هل م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يوفي عني القصاص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قال لي صليبي ذ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هو السبيل للخلا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ND_468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53880" y="120600"/>
            <a:ext cx="505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سـألته وما الصل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إنـه رمـز الآلام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كيف أيها القدو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كيف منح الس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قال لي على الصل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مت من أجل خَطاك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دمي قد سال من جن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فيه أتممت فدا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عنـد ذاك تحيـر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فكيـف مات عني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ي حيرتي سألت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يارب إيضاحا زد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2374517gTWaHW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6200" y="0"/>
            <a:ext cx="18432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في رهبةٍ ورعبةٍ في خشوعٍ وامتن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تجرأت وقرّرتُ أن أخاطب الإ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وإذ ذاكَ تقدمتُ كلي خِزيٌ وأم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بنورِه تجلّى لي كلُّ ما لي من آث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سألتُهُ تُرى هل مَن يوفي عني القصا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فقال لي: صليبي ذا هو السبيل للخلا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0"/>
            <a:ext cx="2133360" cy="9201960"/>
          </a:xfrm>
          <a:prstGeom prst="rect">
            <a:avLst/>
          </a:prstGeom>
          <a:solidFill>
            <a:srgbClr val="0000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سمعته يقول لي إني قد أحببت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تحملت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قاسيتُ كل ذا من أجل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إني الآن أدعوك كيما نحوي تُقبل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لكي ترتاح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إذ تأتي لما حبي تقبل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عند ذاك بكى قلبي ونادى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يا ذا الإل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لك عمري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وكل كلي لك ما دمت في الحياة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3-02-07T13:17:50Z</dcterms:modified>
  <cp:revision>8</cp:revision>
  <dc:subject/>
  <dc:title>PowerPoint Presentation</dc:title>
</cp:coreProperties>
</file>